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D6C-673F-4ECA-929B-40D6D1B9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8E1-8230-4A6F-AAD5-EDEFE69E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4E2-7AA1-4847-8A34-E2C3442D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408-8637-4113-BA92-815987C4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F11D-F73E-495F-82DD-EC5B0395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4570-50EE-4410-9DED-EB106450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DC2D-5536-4068-9A8C-064A5E12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676D-A568-428D-85EC-4E400F86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ABDB-6431-43DA-AC85-8561D4B9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9EBF-F90B-4C7C-AD3B-EE35DDE8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B6FB-464C-4372-AA5E-4E3A172D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9AB-1741-4BBC-8884-4C040314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AC81-F385-4437-B129-3A30E53E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B8EB-6E4A-42FE-9E03-06A0112E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B010-7579-44A0-B1B0-B2353666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09D6-4413-4660-8639-F920F30C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0F93-E450-4951-8247-0A5D848F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CEB-A99C-4102-9249-7D1E528C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6EF-29EF-4A3D-9938-57E1B3FD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101-1439-48DF-83E1-C0DF70C8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DA8-1FC2-4819-9CB0-EF068641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F4A-DD56-4683-8B3D-63062D49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CE4-D442-4961-AAF8-70A9D3A2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D6A-DC82-451C-A721-9BDA2AC0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807160"/>
            <a:ext cx="10078920" cy="175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34108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4056120"/>
            <a:ext cx="906768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48000"/>
          </a:bodyPr>
          <a:p>
            <a:pPr marL="1645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F9C8D-8A2E-4D0E-AD57-C7E07ABBB70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0077480" cy="941400"/>
          </a:xfrm>
          <a:prstGeom prst="rect">
            <a:avLst/>
          </a:prstGeom>
          <a:gradFill rotWithShape="0">
            <a:gsLst>
              <a:gs pos="0">
                <a:srgbClr val="dff2fc"/>
              </a:gs>
              <a:gs pos="100000">
                <a:srgbClr val="009b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0040"/>
            <a:ext cx="10077480" cy="941400"/>
          </a:xfrm>
          <a:prstGeom prst="rect">
            <a:avLst/>
          </a:prstGeom>
          <a:gradFill rotWithShape="0">
            <a:gsLst>
              <a:gs pos="0">
                <a:srgbClr val="dff2fc"/>
              </a:gs>
              <a:gs pos="100000">
                <a:srgbClr val="009b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91D12-F0F2-46B6-83DC-3EA4F34FD29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2341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28000" y="6480000"/>
            <a:ext cx="223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Wydawnictwo Dra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52360" y="2390760"/>
            <a:ext cx="807732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2a6099"/>
                </a:solidFill>
                <a:latin typeface="Arial Black"/>
              </a:rPr>
              <a:t>Les lieux de l’</a:t>
            </a:r>
            <a:r>
              <a:rPr b="0" lang="pl-PL" sz="4400" spc="-1" strike="noStrike">
                <a:solidFill>
                  <a:srgbClr val="2a6099"/>
                </a:solidFill>
                <a:latin typeface="Arial Black"/>
                <a:ea typeface="Times New Roman"/>
              </a:rPr>
              <a:t>éc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0360" y="936720"/>
            <a:ext cx="95504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298440"/>
            <a:ext cx="907092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ff4000"/>
                </a:solidFill>
                <a:latin typeface="Arial Black"/>
              </a:rPr>
              <a:t>Quels lieux de l’</a:t>
            </a:r>
            <a:r>
              <a:rPr b="0" lang="pl-PL" sz="3600" spc="-1" strike="noStrike">
                <a:solidFill>
                  <a:srgbClr val="ff4000"/>
                </a:solidFill>
                <a:latin typeface="Arial Black"/>
                <a:ea typeface="Times New Roman"/>
              </a:rPr>
              <a:t>école connais-tu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4360" y="936720"/>
            <a:ext cx="98474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298440"/>
            <a:ext cx="907092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2a6099"/>
                </a:solidFill>
                <a:latin typeface="Arial Black"/>
              </a:rPr>
              <a:t>Quels lieux de l’</a:t>
            </a:r>
            <a:r>
              <a:rPr b="0" lang="pl-PL" sz="3600" spc="-1" strike="noStrike">
                <a:solidFill>
                  <a:srgbClr val="2a6099"/>
                </a:solidFill>
                <a:latin typeface="Arial Black"/>
                <a:ea typeface="Times New Roman"/>
              </a:rPr>
              <a:t>école connais-tu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36720"/>
            <a:ext cx="10049040" cy="55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2T20:20:03Z</dcterms:created>
  <dc:creator/>
  <dc:description/>
  <dc:language>en-US</dc:language>
  <cp:lastModifiedBy/>
  <dcterms:modified xsi:type="dcterms:W3CDTF">2020-12-02T20:44:04Z</dcterms:modified>
  <cp:revision>4</cp:revision>
  <dc:subject/>
  <dc:title>Blue Curve</dc:title>
</cp:coreProperties>
</file>